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459-3191-4AA7-B482-49B91808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B3D-6ECC-4062-A216-F7E47DD3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E1B-7D11-408B-8B2E-6E107634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54A-4C97-49BD-AB5E-E2981034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78AC-ADF4-4D75-8DF8-A69D846C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C14C-72AD-4B1C-BE74-AE36F51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0C2-2C0A-4BF2-98FF-354FF26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2B1-A7EF-45D2-8F6B-CD4DD20C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5217-4F91-46B2-904A-388DE61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DFC5-5E89-4D5A-AE29-81E51D3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DB32-EEF9-48A7-9471-D1F0FB4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2BE-1502-457E-87BB-DF2E7039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0664-B1BD-4E9B-9D6F-7FA8CAB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E0D-40D5-4233-9107-6F52775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1F3-F386-4B24-9C44-F50CB2D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B5C9-1FF0-4C01-9F07-1342140C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89F-598B-4EC2-ABB3-AB3799EA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500-F650-4BBA-ACD0-187136C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AD1-7523-4F30-A798-F9ED7B87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A9D-5E54-451D-B121-CBF397D6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AB9-9309-4529-817F-E13AD47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F88-4D2D-4D89-A53B-989ED529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902-2688-49F8-B277-A12E02BC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0C6-C31B-4032-85E2-BA3437A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679B-EEA7-4532-A062-6166EB893344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B08-7A09-49F2-BCD5-EE98E395985F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a566e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a566e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a566e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72080" cy="306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38080" y="152388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867280"/>
            <a:ext cx="518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Linda L. Smith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NASA Astrophysics Educator Ambassador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79246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Figure Skat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42670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o begin moving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A figure skater must apply a force using her skates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Once in motion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he’ll continue to glide along the ice in a straight line for a long time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Unless she applies another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0292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ug of Wa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When each end of a rope is pulled,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the rope will move in the direction of whoever is pulling harder</a:t>
            </a:r>
            <a:br>
              <a:rPr sz="1900"/>
            </a:b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 whoever is applying more force.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n this case, the magnitude or strength of A (on the right)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is greater than that of B (on the left), 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a566e"/>
                </a:solidFill>
                <a:latin typeface="Tahoma"/>
              </a:rPr>
              <a:t>so the rope accelerates to the right.</a:t>
            </a:r>
            <a:endParaRPr b="0" lang="en-US" sz="19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772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Snowboard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snowboarder experiences a force due to gravity which pulls her dow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She will mov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in a straight line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unless she applies </a:t>
            </a:r>
            <a:br>
              <a:rPr sz="2600"/>
            </a:b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force to the boar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changing direction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97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Train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42670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train is a very massive objec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nd therefore has a lot of inertia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Once in motion, it is very difficult to stop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requiring a very large force to slow it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777"/>
          <a:stretch/>
        </p:blipFill>
        <p:spPr>
          <a:xfrm>
            <a:off x="914400" y="1523880"/>
            <a:ext cx="7315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Jogger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9000" y="1752120"/>
            <a:ext cx="5562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 jogger experiences many forces while running: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Gravity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The push of her feet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Friction of her shoes on the ground,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Air resistance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566e"/>
                </a:solidFill>
                <a:latin typeface="Tahoma"/>
              </a:rPr>
              <a:t>Her legs, together with the friction of her shoes, overcomes her inertia to propel her forward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00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ar Hitting a Wall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A car rolling down a hill is being moved by the force of gravity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hen the car hits the wall, the greater inertia of the wall stops it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But anything not attached to the car will still move forward,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So the man running after the car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a566e"/>
                </a:solidFill>
                <a:latin typeface="Tahoma"/>
              </a:rPr>
              <a:t>will lose his coffee, his lunch, and his briefcase. </a:t>
            </a:r>
            <a:endParaRPr b="0" lang="en-US" sz="21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4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1:23:52Z</dcterms:created>
  <dc:creator>Linda L. Smith</dc:creator>
  <dc:description/>
  <cp:keywords/>
  <dc:language>en-US</dc:language>
  <cp:lastModifiedBy>Linda L. Smith</cp:lastModifiedBy>
  <dcterms:modified xsi:type="dcterms:W3CDTF">2008-07-06T01:57:0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51033</vt:lpwstr>
  </property>
</Properties>
</file>